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BB5-52BB-4E0D-83A3-3996A98A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97A-71B6-43EC-B427-96337680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A32-443E-4EE2-93DB-64CD2569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91E-FAD9-42DE-A565-C0D41610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ADB7-9D4E-4024-B16A-3323B291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C688-2D94-41BF-A67B-420B0A8B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3EC3-3B0F-4211-804A-A97C6341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14E2-FB60-4900-8AF7-4FE5A103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C93E-9558-4F63-BB59-D2C324C0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8D98-D4BD-4E1A-A581-DAA76AE7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0140-612A-4D44-A27B-7D09BEA0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2D1-3D54-4120-9595-F64E80C5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F106-DB9E-4C56-937C-5FF893E7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7DF9-11FA-4B58-9057-CD7FC994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7A2F-43A1-442C-B65F-783F9DC6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5EC1-A399-4B10-85B8-492E30A3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26A5-D36B-4E13-9FC5-15A63058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BBB-D45D-4217-B222-7B40F0C5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7D7-1BCE-4EBB-B724-C95B5C19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BE5-23CF-4935-94E0-81876035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FAEB-CA69-49E2-BEAE-0347BB71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B15-0262-4046-8A38-7D6D33F5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FDB0-7E51-44EF-9BAB-5BD29CB8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F8C-A3C5-4435-BF39-FD4F4424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6121-114C-43C4-95F3-5D6354EB188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40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52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40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52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64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40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52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64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760" y="488160"/>
              <a:ext cx="11952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400" y="655920"/>
              <a:ext cx="11844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520" y="655920"/>
              <a:ext cx="11700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640" y="655920"/>
              <a:ext cx="11700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400" y="824040"/>
              <a:ext cx="11844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520" y="824040"/>
              <a:ext cx="11700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640" y="824040"/>
              <a:ext cx="11700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1800"/>
              <a:ext cx="1198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400" y="991800"/>
              <a:ext cx="118440" cy="118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520" y="991800"/>
              <a:ext cx="117000" cy="118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640" y="991800"/>
              <a:ext cx="117000" cy="1184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5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400" y="115956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520" y="115956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640" y="115956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400" y="1327680"/>
              <a:ext cx="11844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640" y="1327680"/>
              <a:ext cx="11700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" name="Picture 40" descr="全品中考网背景图片"/>
          <p:cNvPicPr/>
          <p:nvPr/>
        </p:nvPicPr>
        <p:blipFill>
          <a:blip r:embed="rId2"/>
          <a:stretch/>
        </p:blipFill>
        <p:spPr>
          <a:xfrm>
            <a:off x="0" y="0"/>
            <a:ext cx="9524880" cy="714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8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77" name="Oval 9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2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3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4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5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6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7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8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9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0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1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3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4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5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6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7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8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9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0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1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2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3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4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5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6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7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8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9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DCF6-1D5B-4A38-AA67-C3861D56CCD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705800" cy="22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0066"/>
                </a:solidFill>
                <a:latin typeface="Arial"/>
              </a:rPr>
              <a:t>枣儿</a:t>
            </a: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003280" y="260280"/>
            <a:ext cx="330516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话剧小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xinsrc_73a15c45cd8446328559cea9571bf16b_012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47840" y="260280"/>
            <a:ext cx="67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理解剧中人物的思想感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92200" y="765000"/>
            <a:ext cx="44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关于老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4000" y="134136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．老人在与男孩的谈话中，回忆了哪些事情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如何认识老人的心态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76200" y="2492280"/>
            <a:ext cx="851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老人在与男孩的谈话中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回忆了枣儿小时候的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：儿子“枣儿”一名的来历，儿子只顾摘枣竟尿了老人一脖子，枣儿小时候一有尿就尿到枣树下。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回忆了自己小时候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偷枣而长出小枣树的事、枣儿落到鬼子的钢盔上吓跑鬼子、闹灾荒时靠枣儿活命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50920" y="47973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老人在谈话中“沉思”“心事重重”“闪着泪花”，流露出老人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对儿子的思念，对以往岁月的怀念，对故土的热爱之情，有一种浓浓的失落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663480" y="765000"/>
            <a:ext cx="750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．老人对男孩的态度如何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39640" y="1844640"/>
            <a:ext cx="80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老人请男孩吃枣，老人让男孩骑跨在自己肩上摘枣，老人给男孩讲故事，老人与男孩拉勾发誓，老人紧紧搂住男孩，“将枣儿塞进男孩嘴里，自己也拿起枣儿咀嚼”，这些都表现了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老人对男孩的疼爱，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表现出了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一种不是祖孙而如同祖孙般的长辈对晚辈的关爱，也折射出他对儿子的亲情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663480" y="476280"/>
            <a:ext cx="6364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．如何评价老人这个形象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35120" y="14176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剧中的老人首先是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老一辈的农民形象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他一生劳作，不离乡土，如今老迈，儿子离乡外出，他继续留守家园。其次他是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具有更普遍意义的老一代的长者形象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：他满怀亲情，富有爱心，他关爱已成年的下一代，又疼爱尚年幼的新一代；作为过来人，他怀旧而又传统，面对生活的变化不失爱心、不失希望而又有所失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19120" y="0"/>
            <a:ext cx="26128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关于男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519120" y="981000"/>
            <a:ext cx="77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谈谈你对剧中男孩这一形象的认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447840" y="1851120"/>
            <a:ext cx="83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剧中的男孩想把枣子留给父亲吃，喜欢吃巧克力盼望父亲带巧克力回来，他蹑手蹑脚捡枣子，把枣子藏在红肚兜上的衣袋里，温顺地扶老人，认真听老人讲故事，和老人拉勾发誓……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男孩是年幼的新生一代的形象：</a:t>
            </a:r>
            <a:r>
              <a:rPr b="1" lang="zh-CN" sz="3200" spc="-1" strike="noStrike">
                <a:solidFill>
                  <a:srgbClr val="ff3399"/>
                </a:solidFill>
                <a:latin typeface="楷体"/>
                <a:ea typeface="楷体"/>
              </a:rPr>
              <a:t>他思念父亲，喜爱心疼自己的老人，好奇而懂事，在他身上处处表现了儿童纯真可爱的天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838880" y="247680"/>
            <a:ext cx="38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关于老人的儿子和男孩的父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735120" y="1116000"/>
            <a:ext cx="736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你对剧中未出场的这两个人物怎么看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反映了怎样的社会现实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08200" y="2570040"/>
            <a:ext cx="78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老人的儿子，不再像老一辈那样。终身不离乡土，而是远离故乡和亲人，闯荡于外面的世界；男孩的父亲，离开乡村而定居于城里，抛弃了旧家而另成新家。这两个人物从不同的侧面反映了社会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人物形象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老人：老一辈的农民形象：辛勤劳作，热爱家乡，关爱下一代，念旧而又传统，对生活不失希望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男孩：年幼的新生一代的形象：思念父亲，喜爱心疼自己的老人，纯真可爱，好奇而又懂事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95280" y="345960"/>
            <a:ext cx="888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作者想要借枣儿表达一种什么思想感情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24000" y="112536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剧中，枣儿是亲情的象征，是故乡的象征，但更主要的是传统生活的象征，是精神家园的象征。全剧以枣儿为象征，借枣儿来写亲情，又借亲情来反映我国</a:t>
            </a:r>
            <a:r>
              <a:rPr b="1" lang="zh-CN" sz="3200" spc="-1" strike="noStrike">
                <a:solidFill>
                  <a:srgbClr val="330066"/>
                </a:solidFill>
                <a:latin typeface="楷体"/>
                <a:ea typeface="楷体"/>
              </a:rPr>
              <a:t>由传统社会向现代社会转型过程中人们生存状态的变化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作者在剧本中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既表现了现代化进程中传统的失落、精神家园的失落，以及人们对传统的固守、对精神家园的追寻，也企盼和呼唤人们认识和适应时代发展带来的变化，走出家园、走出封闭、走出传统，而迈进现代社会的新生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447840" y="201600"/>
            <a:ext cx="80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课文开头和结尾都用了同一首童谣，读一读，想想它在剧中起什么作用。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324000" y="148428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课文开头和结尾都用了同一首童谣。这首童谣表达了在“枣儿”中所融入的父母疼爱子女的亲情。课文以这种富有民间特色的童谣形式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开头，</a:t>
            </a:r>
            <a:r>
              <a:rPr b="1" lang="zh-CN" sz="3200" spc="-1" strike="noStrike">
                <a:solidFill>
                  <a:srgbClr val="ff3399"/>
                </a:solidFill>
                <a:latin typeface="楷体"/>
                <a:ea typeface="楷体"/>
              </a:rPr>
              <a:t>隐含了全剧与“枣儿”有关、与亲情有关的特定内容，并将人们带入具有民族传统风情、充满乡土气息的特定情境。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结尾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也用了这首童谣，但情境有所变化，由幕后换为前台，由哼唱变成呼喊，由没人回应转为“响起无数个童声呼唤的声音”，</a:t>
            </a:r>
            <a:r>
              <a:rPr b="1" lang="zh-CN" sz="3200" spc="-1" strike="noStrike">
                <a:solidFill>
                  <a:srgbClr val="ff3399"/>
                </a:solidFill>
                <a:latin typeface="楷体"/>
                <a:ea typeface="楷体"/>
              </a:rPr>
              <a:t>既与开头相呼应，又强化了剧中的情境和内容，深化了全剧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Arial"/>
              </a:rPr>
              <a:t>主旨</a:t>
            </a: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"/>
                <a:ea typeface="楷体"/>
              </a:rPr>
              <a:t>全剧运用象征手法，围绕着枣儿展开情节，描写了老人和男孩之间的一段亲切交往，表现了老人对儿子、男孩对父亲的深切亲情，反映了我国在现代化进程中的社会变迁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330066"/>
                </a:solidFill>
                <a:latin typeface="Arial"/>
              </a:rPr>
              <a:t>艺术手法</a:t>
            </a:r>
            <a:br>
              <a:rPr sz="5200"/>
            </a:b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全剧运用了</a:t>
            </a:r>
            <a:r>
              <a:rPr b="1" lang="zh-CN" sz="3400" spc="-1" strike="noStrike">
                <a:solidFill>
                  <a:srgbClr val="ff0066"/>
                </a:solidFill>
                <a:latin typeface="楷体"/>
                <a:ea typeface="楷体"/>
              </a:rPr>
              <a:t>象征</a:t>
            </a: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的艺术手法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全剧以“枣儿”为线索贯穿剧情，借“枣儿”牵系和寄托人物的感情：老人和男孩因“枣儿”而相遇、而亲近，又因“枣儿”而引起他们对亲人的思念和呼唤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剧中有不少台词和情节富有象征意味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330066"/>
                </a:solidFill>
                <a:latin typeface="Arial"/>
              </a:rPr>
              <a:t>作者简介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         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0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孙鸿：剧作家，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1999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年《枣儿》荣获曹禺优秀 话剧小品 奖。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8391,4a1161,1d01,1"/>
          <p:cNvPicPr/>
          <p:nvPr/>
        </p:nvPicPr>
        <p:blipFill>
          <a:blip r:embed="rId1"/>
          <a:stretch/>
        </p:blipFill>
        <p:spPr>
          <a:xfrm>
            <a:off x="6300720" y="4653000"/>
            <a:ext cx="1944720" cy="1168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9669,1c374eb,1535,1"/>
          <p:cNvPicPr/>
          <p:nvPr/>
        </p:nvPicPr>
        <p:blipFill>
          <a:blip r:embed="rId2"/>
          <a:stretch/>
        </p:blipFill>
        <p:spPr>
          <a:xfrm>
            <a:off x="539640" y="4143240"/>
            <a:ext cx="4176720" cy="2714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048120" y="730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课   堂   练   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500040" y="1428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运用戏剧塑造人物的方法丰富下列场景内容。（要求：任选其一，十句左右的小对话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928800" y="25002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清晨，当你迟到时，推开教室的门，你与老师之间会有怎样的情景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971640" y="3645000"/>
            <a:ext cx="72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面对检测，无论是怎样的成绩，你和你的任课老师会有怎样的交流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1828800" y="205740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草檀斋毛泽东字体"/>
              </a:rPr>
              <a:t>谢谢大家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457200" y="990720"/>
            <a:ext cx="791856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整体把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《枣儿》是一个话剧小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全剧围绕着“枣儿”展开情节，描写了老人和男孩之间的一段亲切交往，表现了老人对儿子、男孩对父亲的深切亲情，反映了我国在现代化进程中的社会变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330066"/>
                </a:solidFill>
                <a:latin typeface="Arial"/>
              </a:rPr>
              <a:t>什么叫象征？</a:t>
            </a: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"/>
                <a:ea typeface="楷体"/>
              </a:rPr>
              <a:t>象征就是托意于物，通过某一特定的具体形象来表现抽象事物和思想感情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fswy38"/>
          <p:cNvPicPr/>
          <p:nvPr/>
        </p:nvPicPr>
        <p:blipFill>
          <a:blip r:embed="rId1"/>
          <a:srcRect l="20590" t="0" r="17547" b="8298"/>
          <a:stretch/>
        </p:blipFill>
        <p:spPr>
          <a:xfrm>
            <a:off x="5643720" y="4000680"/>
            <a:ext cx="2357280" cy="2366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411280" y="0"/>
            <a:ext cx="48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整体感知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35120" y="1052640"/>
            <a:ext cx="66452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朗读课文，把握剧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755640" y="18446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、概括剧情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95280" y="270828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乡间一棵挂满红枣的老树下。一位老人遇到了一个捡枣儿的男孩，这一老一少交谈起来，十分亲热。在谈话中，老人回忆有关“枣儿”的往事，流露出自己对儿子的思念；男孩要把“枣儿”留给父亲吃，流露出自己对父亲的盼望。他们满怀亲情，呼唤各自的亲人回归故乡，回到自己身边，来吃这家乡的“枣儿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楷体"/>
                <a:ea typeface="楷体"/>
              </a:rPr>
              <a:t>谈谈枣儿在剧中所起的作用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全剧以“枣儿”为</a:t>
            </a:r>
            <a:r>
              <a:rPr b="1" lang="zh-CN" sz="3900" spc="-1" strike="noStrike">
                <a:solidFill>
                  <a:srgbClr val="ff0066"/>
                </a:solidFill>
                <a:latin typeface="楷体"/>
                <a:ea typeface="楷体"/>
              </a:rPr>
              <a:t>标题</a:t>
            </a: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，并以“枣儿”</a:t>
            </a:r>
            <a:r>
              <a:rPr b="1" lang="zh-CN" sz="3900" spc="-1" strike="noStrike">
                <a:solidFill>
                  <a:srgbClr val="ff0066"/>
                </a:solidFill>
                <a:latin typeface="楷体"/>
                <a:ea typeface="楷体"/>
              </a:rPr>
              <a:t>贯穿全剧</a:t>
            </a: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，让老人与男孩</a:t>
            </a:r>
            <a:r>
              <a:rPr b="1" lang="zh-CN" sz="3900" spc="-1" strike="noStrike">
                <a:solidFill>
                  <a:srgbClr val="ff0066"/>
                </a:solidFill>
                <a:latin typeface="楷体"/>
                <a:ea typeface="楷体"/>
              </a:rPr>
              <a:t>围绕“枣儿”进行对话展开情节</a:t>
            </a:r>
            <a:r>
              <a:rPr b="1" lang="zh-CN" sz="3900" spc="-1" strike="noStrike">
                <a:solidFill>
                  <a:srgbClr val="000000"/>
                </a:solidFill>
                <a:latin typeface="楷体"/>
                <a:ea typeface="楷体"/>
              </a:rPr>
              <a:t>。老人的经历、情感乃至命运都与“枣儿”有着不解之缘，男孩对父亲的思念，也与“枣儿”相牵连</a:t>
            </a:r>
            <a:r>
              <a:rPr b="1" lang="zh-CN" sz="3900" spc="-1" strike="noStrike">
                <a:solidFill>
                  <a:srgbClr val="ff0066"/>
                </a:solidFill>
                <a:latin typeface="楷体"/>
                <a:ea typeface="楷体"/>
              </a:rPr>
              <a:t>。“枣儿”是全剧情节发展的线索，是人物对白的话题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330066"/>
                </a:solidFill>
                <a:latin typeface="楷体"/>
                <a:ea typeface="楷体"/>
              </a:rPr>
              <a:t>枣儿象征什么？</a:t>
            </a: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7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4700" spc="-1" strike="noStrike">
                <a:solidFill>
                  <a:srgbClr val="000000"/>
                </a:solidFill>
                <a:latin typeface="楷体"/>
                <a:ea typeface="楷体"/>
              </a:rPr>
              <a:t>枣儿”是亲情的象征，是故乡的象征，也是传统生活的象征和精神生活的象征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6119,162df1,d09,1"/>
          <p:cNvPicPr/>
          <p:nvPr/>
        </p:nvPicPr>
        <p:blipFill>
          <a:blip r:embed="rId1"/>
          <a:stretch/>
        </p:blipFill>
        <p:spPr>
          <a:xfrm>
            <a:off x="5724360" y="4508640"/>
            <a:ext cx="2664000" cy="1865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讨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"/>
                <a:ea typeface="楷体"/>
              </a:rPr>
              <a:t>全剧有几个人物？在出场上有何不同 ？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楷体"/>
                <a:ea typeface="楷体"/>
              </a:rPr>
              <a:t>全剧共有四个人物。两位出场：老人和男孩；两位未出场：老人的儿子和男孩的父亲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结构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枣儿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老人                                   寄托人物感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线索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枣儿       象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隶书"/>
              </a:rPr>
              <a:t>男孩                               反映人物生存状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"/>
          <p:cNvSpPr/>
          <p:nvPr/>
        </p:nvSpPr>
        <p:spPr>
          <a:xfrm flipV="1">
            <a:off x="3500280" y="2928240"/>
            <a:ext cx="12240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 rot="5975400">
            <a:off x="1908000" y="2563560"/>
            <a:ext cx="1079640" cy="936720"/>
          </a:xfrm>
          <a:prstGeom prst="triangle">
            <a:avLst>
              <a:gd name="adj" fmla="val 87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 rot="15264000">
            <a:off x="5051880" y="2589480"/>
            <a:ext cx="1057320" cy="1008000"/>
          </a:xfrm>
          <a:prstGeom prst="triangle">
            <a:avLst>
              <a:gd name="adj" fmla="val 237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5017,162bcf,10d9,1"/>
          <p:cNvPicPr/>
          <p:nvPr/>
        </p:nvPicPr>
        <p:blipFill>
          <a:blip r:embed="rId1"/>
          <a:stretch/>
        </p:blipFill>
        <p:spPr>
          <a:xfrm>
            <a:off x="5435640" y="4697280"/>
            <a:ext cx="1873080" cy="2160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0T12:37:11Z</dcterms:created>
  <dc:creator/>
  <dc:description/>
  <cp:keywords/>
  <dc:language>en-US</dc:language>
  <cp:lastModifiedBy>yanlu</cp:lastModifiedBy>
  <cp:lastPrinted>1899-12-30T00:00:00Z</cp:lastPrinted>
  <dcterms:modified xsi:type="dcterms:W3CDTF">2014-02-12T03:29:26Z</dcterms:modified>
  <cp:revision>23</cp:revision>
  <dc:subject/>
  <dc:title>枣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